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67C-1EF3-4D7A-B273-ECCC2462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0D2-B832-491E-AE03-F64E6452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34F-6924-4722-BE39-4215C9E6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837-8D1B-47E9-A1D6-6F110FB4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51D-9F71-4EE5-8DE4-CAE8F0E3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550-F9CC-4CFE-ABCE-7934839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7D4-6CEE-4DE9-919D-99BD592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275-F987-4418-B55E-FE5BC361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430-D781-4019-810C-87ED318F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139-039B-4F7A-B003-317945B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40C-C0A3-4069-ABCB-94B21D1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A52-10ED-4C34-8852-F5DAE58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072-E536-4391-9433-AC0E8989A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sslefreeclipart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rsbible.inf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ithsroom.com/downloads/resurrection%20eggs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6668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514760" cy="240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133720" y="152388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Enjoy you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Summe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Safety c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 Cool and Jo F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I: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Compute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Outpu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and Replacing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Interna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ing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ting them back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2286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146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1240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335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322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. 28- Marc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ictograp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Research Project: African Country (con'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yclopedia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for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's Love Letter (6 min.)- Give handout to take h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0212" r="0" b="6250"/>
          <a:stretch/>
        </p:blipFill>
        <p:spPr>
          <a:xfrm>
            <a:off x="1523880" y="0"/>
            <a:ext cx="6248520" cy="29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4572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ebruary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boarding- Working in Microsoft Word, create columns, and add numbering. Keyboard cover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oks of the Bi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200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remember the new keys, x, z and '? Do you remember the new keys, x, z and '? New letters! First a full stop - . - use your right hand ring finger, the same finger as for l. Now for the forward slash - / - use your right little finger - the same finger that you use for ; and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mithsroom.com/downloads/resurrection%20egg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eg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ut and paste the bible verse from the abov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custom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jose monteiro</dc:creator>
  <dc:description/>
  <dc:language>en-US</dc:language>
  <cp:lastModifiedBy>Dawson</cp:lastModifiedBy>
  <dcterms:modified xsi:type="dcterms:W3CDTF">2011-08-30T03:38:09Z</dcterms:modified>
  <cp:revision>6</cp:revision>
  <dc:subject/>
  <dc:title>August</dc:title>
</cp:coreProperties>
</file>